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941-443B-4FE8-A514-B5A7CA9C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F9A-CDED-466B-B5E8-3CAA3F70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C10-0FDA-49D2-AF2A-A4006718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9B0-42B1-4F4E-B956-241EB218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794-E9F7-4A04-A272-4104317F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1D4-369D-499E-BD81-6B76C531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5FC-2352-4C0F-A7F3-D06C6715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EF5-9E97-4A59-BE6B-7E836E5E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8B1-001B-440F-8185-7A13BCE5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F7D-6C28-4C3E-AA98-B3AD033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F67-6448-481B-BCF7-DA6CAEED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9EB-5003-41AA-8DFB-D72DE14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6582-7110-4514-A294-EDB2366EC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 Their  They’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ractice Senten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)  Where did _____________ dog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)  I have ______________ phone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)  Can we go ______________ after lun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)  I want to go to the party, but I don’t know how to get _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do they think _______________ foo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)  Give the students ____________ grad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)  ________________ looking at me in a funny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)  Can we go to _____________ ho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)  Put the garden hose over ___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)  Who is _______________ mot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)  Where did _______________ coats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)  ______________ going to have fun at the movies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47:08Z</dcterms:created>
  <dc:creator>BPS</dc:creator>
  <dc:description/>
  <dc:language>en-US</dc:language>
  <cp:lastModifiedBy>BPS</cp:lastModifiedBy>
  <dcterms:modified xsi:type="dcterms:W3CDTF">2009-12-08T15:50:38Z</dcterms:modified>
  <cp:revision>7</cp:revision>
  <dc:subject/>
  <dc:title>There  Their  They’re</dc:title>
</cp:coreProperties>
</file>